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DDB-CE8F-41B3-AF78-FD8A6339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B69-20DD-4BB9-8037-B7ED8690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829-4A98-4C0E-A3D8-F495B31A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C09-0611-43A3-8354-E5E8BA23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4F1-646C-4871-8F21-68931EA9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593-5B46-4DDE-A2B0-C815633D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9CE-EC23-4FFA-B9E9-3FE1E92B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9C3-B1F5-459E-8048-925A3383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6A1-ACFD-43BD-BC02-0373815D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527-1513-49D7-8779-CCFE4117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0A7-9BEA-41F4-9B11-D7518EF2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CD1-3C65-47F6-B325-09780374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9827-34BB-420B-89F5-3E7C69268E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list of a Good M&amp;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320" y="380880"/>
          <a:ext cx="9067680" cy="6476760"/>
        </p:xfrm>
        <a:graphic>
          <a:graphicData uri="http://schemas.openxmlformats.org/drawingml/2006/table">
            <a:tbl>
              <a:tblPr/>
              <a:tblGrid>
                <a:gridCol w="9067680"/>
              </a:tblGrid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&amp;E UN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unit or individual within the central unit of the program who is responsible for M&amp;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significant contribution to the national M&amp;E bud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formalized (M&amp;E) link with national and local research institutions, professional associations, and academic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formalized (M&amp;E) link with leading NGOs, donors, and community-based organiz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demiologist and/or social science expertise in the M&amp;E unit or affiliated with the 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processing and statistical expertise in the M&amp;E unit or affiliated with the 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dissemination expertise in the M&amp;E unit or affiliated with the uni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 Go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-defined national program goals and targe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r reviews/evaluations of the progress of the implementation of the national program pl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delines and guidance to districts and regions or provinces for M&amp;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delines for linking M&amp;E to other se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rdination of national and donor M&amp;E nee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o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set of priority indicators and additional indicators at different levels of M&amp;E, some of which are comparable over time and with other countr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Collection, Analysis, and U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 overall national data-collection and analysis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plan to collect data and analyze indicators at different levels of M&amp;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wide knowledge and capacity (e.g., tools and budget) to collect and use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plan to supervise, support, and ensure the quality of data coll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plan to ensure the translation of data into problem identification, strategic planning, policy formulation, etc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Dissemin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 overall national data-dissemination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well-disseminated informative annual report of the M&amp;E 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ual meeting to disseminate and discuss M&amp;E and research findings with policy-makers and plan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clearinghouse for generation and dissemination of find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centralized database or library of all data collection, including ongoing re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rdination of national and donor M&amp;E dissemination nee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olina Population Center</cp:lastModifiedBy>
  <dcterms:modified xsi:type="dcterms:W3CDTF">2006-11-08T21:57:54Z</dcterms:modified>
  <cp:revision>3</cp:revision>
  <dc:subject/>
  <dc:title>PowerPoint Presentation</dc:title>
</cp:coreProperties>
</file>